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0609-86A7-469C-836C-CDC8B77B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7A1B-74E8-4C08-B6D0-4A4B2571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7450-B6F0-4BDA-A5E6-6EBADCBE8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2E59-BDEC-4A94-83D9-E295E064F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CAEC-0CDE-4563-BC0E-C77ADCDD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C80F-68BB-43C6-8B64-7FD0FEE2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EB0D-2CA3-4291-9CBC-546D3A4D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3913-9A9B-425C-9A9A-E28AF8AC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5D8A-A478-4760-97F4-789C1640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C85B-FDB9-4310-9F34-870EA706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72A7-DA3F-478C-9F91-51E23170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BFE0-CB67-4A12-9A12-2E9EA1EE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6022-4350-462C-BE52-BE57D016FC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66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30b58ea3"/>
          <p:cNvPicPr/>
          <p:nvPr/>
        </p:nvPicPr>
        <p:blipFill>
          <a:blip r:embed="rId2"/>
          <a:stretch/>
        </p:blipFill>
        <p:spPr>
          <a:xfrm>
            <a:off x="2411280" y="620640"/>
            <a:ext cx="3760920" cy="3551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30b58ea3"/>
          <p:cNvPicPr/>
          <p:nvPr/>
        </p:nvPicPr>
        <p:blipFill>
          <a:blip r:embed="rId3"/>
          <a:stretch/>
        </p:blipFill>
        <p:spPr>
          <a:xfrm>
            <a:off x="2428920" y="642960"/>
            <a:ext cx="3760920" cy="35510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2413080" y="5734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http://img-fotki.yandex.ru/get/5802/talana1959.11d/0_5733c_3ad1dc64_XL.jpg"/>
          <p:cNvPicPr/>
          <p:nvPr/>
        </p:nvPicPr>
        <p:blipFill>
          <a:blip r:embed="rId4"/>
          <a:stretch/>
        </p:blipFill>
        <p:spPr>
          <a:xfrm>
            <a:off x="357120" y="4430880"/>
            <a:ext cx="1785960" cy="1755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http://img-fotki.yandex.ru/get/5802/talana1959.11d/0_5733c_3ad1dc64_XL.jpg"/>
          <p:cNvPicPr/>
          <p:nvPr/>
        </p:nvPicPr>
        <p:blipFill>
          <a:blip r:embed="rId5"/>
          <a:stretch/>
        </p:blipFill>
        <p:spPr>
          <a:xfrm rot="14835000">
            <a:off x="6503760" y="4495320"/>
            <a:ext cx="193176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87280" y="1599840"/>
            <a:ext cx="705672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родная пословица гласи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Соблюдай режим труда и быта, будет здоровье крепче гранита»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7" descr="http://daru-vam-otkritku.ru/wp-content/uploads/2015/03/111505939_102899123_scrapangie_lilies_ele11.png"/>
          <p:cNvPicPr/>
          <p:nvPr/>
        </p:nvPicPr>
        <p:blipFill>
          <a:blip r:embed="rId1"/>
          <a:stretch/>
        </p:blipFill>
        <p:spPr>
          <a:xfrm>
            <a:off x="0" y="142920"/>
            <a:ext cx="2751120" cy="1928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http://daru-vam-otkritku.ru/wp-content/uploads/2015/03/111505939_102899123_scrapangie_lilies_ele11.png"/>
          <p:cNvPicPr/>
          <p:nvPr/>
        </p:nvPicPr>
        <p:blipFill>
          <a:blip r:embed="rId2"/>
          <a:stretch/>
        </p:blipFill>
        <p:spPr>
          <a:xfrm>
            <a:off x="6392880" y="4643280"/>
            <a:ext cx="27511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16000" y="2060280"/>
            <a:ext cx="71280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родная мудрость гласит: «Дерево держится своими корнями, а человек </a:t>
            </a: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пищей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1258920" y="1989000"/>
            <a:ext cx="6913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народе говоря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Эта девочка красивая, как берёзка, а мальчик стройный, как тополё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26920" y="1600200"/>
            <a:ext cx="734544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олотое правил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бщения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Относись к окружающим так, как хочешь, что бы они относились к тебе!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7" descr="http://daru-vam-otkritku.ru/wp-content/uploads/2015/03/111505939_102899123_scrapangie_lilies_ele11.png"/>
          <p:cNvPicPr/>
          <p:nvPr/>
        </p:nvPicPr>
        <p:blipFill>
          <a:blip r:embed="rId1"/>
          <a:stretch/>
        </p:blipFill>
        <p:spPr>
          <a:xfrm>
            <a:off x="0" y="0"/>
            <a:ext cx="2751120" cy="1928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http://daru-vam-otkritku.ru/wp-content/uploads/2015/03/111505939_102899123_scrapangie_lilies_ele11.png"/>
          <p:cNvPicPr/>
          <p:nvPr/>
        </p:nvPicPr>
        <p:blipFill>
          <a:blip r:embed="rId2"/>
          <a:stretch/>
        </p:blipFill>
        <p:spPr>
          <a:xfrm>
            <a:off x="6392880" y="4643280"/>
            <a:ext cx="27511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66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30b58ea3"/>
          <p:cNvPicPr/>
          <p:nvPr/>
        </p:nvPicPr>
        <p:blipFill>
          <a:blip r:embed="rId2"/>
          <a:stretch/>
        </p:blipFill>
        <p:spPr>
          <a:xfrm>
            <a:off x="2195640" y="765000"/>
            <a:ext cx="419256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20:05Z</dcterms:created>
  <dc:creator>марина</dc:creator>
  <dc:description/>
  <dc:language>en-US</dc:language>
  <cp:lastModifiedBy>Карина</cp:lastModifiedBy>
  <dcterms:modified xsi:type="dcterms:W3CDTF">2017-04-08T20:33:08Z</dcterms:modified>
  <cp:revision>76</cp:revision>
  <dc:subject/>
  <dc:title>Заголовок слайда</dc:title>
</cp:coreProperties>
</file>